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14800" cy="37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1AAB4-1073-4BDD-B877-B7F03202B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076A-A65B-46FD-B6EF-54E7DA0E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2B82-4CF5-4ECC-8E3B-5283979A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65BD-6C1F-44F3-A157-4F58DD60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08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08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B070-0FC9-4E65-A71D-38F0508D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E55-B565-499A-B947-CCBC58E0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2910-4CB7-41E1-A18D-C0873687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20BA-63E7-456E-94DB-7790DC73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3702-AE82-40B8-8FDB-A46956E1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5652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DD33-4E0E-4DFF-927D-A4714D2C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AD5E-C68D-4527-AB82-37CDCC6C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5ECF-0AC7-4F92-8E77-A04EDE35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DD90-84B9-4502-8A64-D7765E7B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7157880"/>
            <a:ext cx="23335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/15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7157880"/>
            <a:ext cx="31813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 Emergency Services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7157880"/>
            <a:ext cx="233388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 believe 802 needs to finish the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referenced external req'ts from EC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interface specs from ECRIT harmonized and reconciled to our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within various 802 W.G.s to tweak their pie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S WG to generate a single standard to reconcile the upper layer inte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 believe 802 may offer to improve the 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tandard that includes means 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end &amp; perhaps per hop location in 802 network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 emergency calls priority in 802 networks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information to enable Call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a LOCAL connection mechanism (e.g. bypass various tunneling schem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service to unauthenticated users to a default VoIP rou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ofing and security are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H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-ECSG intends to provide what ECRIT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work with ECRIT to provide optimal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end location in 802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 ES to provide/harmonize end station location MIB to ECRIT format requi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per-hop location in 802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/use existing mechanism from 802.1ag and equivalents from 802.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mergency calls priority within 802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existing priority mechanisms in 802.1Q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Priority access or call handling is not a current requirement in 112/911 systems nor anticipated in the remainder of VoIP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information to enable Call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both originating terminal location MIB information and per-hop network information as part of session initiation information to the network attachment ro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uld provide “hints” that the 802 network could use if call is disconnected and straightforward callback turns out to be a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551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14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LOCAL connection mechanism (e.g. bypass various tunneling schem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2400" indent="-314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VLAN (or equivalent) across all 802 networks that is dedicated exclusively to Emergency Services. It would have a single destination, i.e. the network attachment ro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2400" indent="-314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nticipate that packets would be steered to this new dedicated VLAN by the use of a new Ether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444320"/>
            <a:ext cx="907092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service to unauthenticated u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ould be difficult, but is a firm regulatory requirement in cellular system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 required in VoIP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believe a dedicated VLAN will make it easier than it would be to do otherw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uthentication would be needed to use the dedicated VLAN, but it can only be used to get to the PS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f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and per-hop location information as provided will be available as a tool for use in dealing with this classical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6:02:31Z</dcterms:created>
  <dc:creator>Geoff Thompson</dc:creator>
  <dc:description/>
  <dc:language>en-US</dc:language>
  <cp:lastModifiedBy>Geoff Thompson</cp:lastModifiedBy>
  <dcterms:modified xsi:type="dcterms:W3CDTF">2010-02-11T21:42:11Z</dcterms:modified>
  <cp:revision>272</cp:revision>
  <dc:subject/>
  <dc:title/>
</cp:coreProperties>
</file>